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E44C-0459-4B9A-A4F8-2F6C578374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ueshe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学生使用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271F-9821-45D9-A89A-203C9FFEC86E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3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D7DB-84AA-4389-9187-886DC19FA01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6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BC9-615B-4790-9FC3-CCE2A558948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9A8B-E9A0-45C9-A40C-29F70BD3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BA5-18F0-4991-9891-C184A442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83CB-FDBC-424A-AB23-4E5F21BF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61C1-5CFD-4B9C-B00D-8D4B041B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612E-C61F-4D14-9FBC-AFF8AFCD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1561-C8EB-439D-A464-CC552ECD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移动端使用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44C-6CB4-42EC-8961-7B24508639E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EC0-7070-4789-9C9E-16B8AF43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2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01E5-82C5-4306-A4E8-05A83B396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48E8-6623-4979-AB7C-98D8293F52F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9790-F3B6-47E0-9120-822F75790EA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326-1E5E-4692-8225-36EA84C49CD4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EBA3-46C3-4661-B7DD-34762136803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C718-A9AA-47F6-8A32-4B02343B4BB9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348-4627-46D3-8F8E-217346D8FE8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BFC-4167-40A1-91F2-942E3CF3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BB2-DA45-44F6-9D8E-B8290D4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188-9422-4734-A738-D852ECEB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F81-CA91-46B1-BF39-92FF1C5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FFF-6112-4CEB-B44A-76C3281C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B6B1-F27F-4DFE-838B-2FF79C1D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E90-652E-4964-9DA4-17F5D13A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8944-5C07-4F5C-901D-7181578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DA80-BBD0-4049-BDE5-4F9006E6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26ED-0745-4D22-9FFF-FF41FB4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E1B8-CB94-44C9-928D-5A3CB5E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7DF-BECB-4EC2-9AFC-45E9A6E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0D7F-5B41-409D-9F26-29A6317D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AD83-2D74-4D76-940C-6BCAB13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2494-706B-4E72-8C48-CE3A20F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BDE-E3F0-49F4-81A6-23CD068F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89D7-2586-47BB-8E4F-86C9E555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2F04-CCC0-4522-BF3A-A9B357F8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8353-7E80-4DD4-BEA4-CEABB35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2046-8F2B-467B-B494-E09FBD3A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29BF-822F-45E8-8AEB-76249E6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E9D2-CED0-4C6B-82B4-803C4E00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9FA-456E-4448-A78F-C75CE434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195D-6700-4589-95BB-07F4F30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B04B-9369-4A54-88B6-44354B26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209C-693D-4D70-9470-B738F4A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9F62-19CE-47C4-9162-062E84FE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E4B4-DCE1-450A-9303-3C6E80B4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75D6-6867-4834-B3D0-7DBD32BF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31E5-453B-4344-A84E-A987E93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BA8C-2C64-4322-8C22-F1C8619E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D1A6-B7AA-47F9-91D8-9FF50A5B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9D00-9A60-44FB-93E2-3E06FBB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BAC-3D9B-4421-BCE4-2CA6D85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C7CC-8BF2-4DFF-87BE-ABAAF67A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C86E-854A-4C7B-A49F-AB8E4CC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B389-C7DA-44F3-9D51-5D6DD12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A8E2-9A65-4AF3-8387-5B08E1C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0FD3-F71B-4D59-AF16-023C091F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C7A9-3BBE-40ED-8FCA-A65DA43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8817-3376-4A55-9EA0-791476CE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B625D-7635-4C60-A290-AE2045C4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CAFA-5F28-4B04-AE5E-48E746B2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61A-E904-406D-97F2-57ADB0A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C26-FD64-4DBD-B41D-88403B1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FD-12AF-4CB4-9FE7-17FC8B8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924-FB63-4DA4-B08C-390DDF4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343-6779-4BB2-8673-8B380909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FC78-B43B-42DC-855B-147E040F91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D09C-DDD1-436D-BF29-F3281455A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4B84-4EFC-4FDE-97E6-AA8062006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03E5-1CA0-4F8D-AB3C-DE36FA358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yujxjy.fanya.chaoxing.com/?schoolid=128946&amp;ismoocunit=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5"/>
          <p:cNvSpPr/>
          <p:nvPr/>
        </p:nvSpPr>
        <p:spPr>
          <a:xfrm>
            <a:off x="0" y="2492280"/>
            <a:ext cx="9144000" cy="20163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395280" y="3500280"/>
            <a:ext cx="7886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学士学位课程学习                  使用说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492360" y="5373720"/>
            <a:ext cx="1943280" cy="719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沈阳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2340000" y="5661000"/>
            <a:ext cx="3527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484360" y="5300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只有完成第一，二部分章节学习后才能依次解锁下面其它章节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"/>
          <p:cNvSpPr/>
          <p:nvPr/>
        </p:nvSpPr>
        <p:spPr>
          <a:xfrm>
            <a:off x="0" y="428760"/>
            <a:ext cx="9144000" cy="10126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5712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二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3814920" y="1616040"/>
            <a:ext cx="251748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5"/>
          <p:cNvSpPr/>
          <p:nvPr/>
        </p:nvSpPr>
        <p:spPr>
          <a:xfrm>
            <a:off x="1547640" y="4808520"/>
            <a:ext cx="2346480" cy="461880"/>
          </a:xfrm>
          <a:prstGeom prst="wedgeRectCallout">
            <a:avLst>
              <a:gd name="adj1" fmla="val 75425"/>
              <a:gd name="adj2" fmla="val 1360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4748040" y="5614920"/>
            <a:ext cx="650880" cy="262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机构账号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3324240" cy="498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2"/>
          <a:stretch/>
        </p:blipFill>
        <p:spPr>
          <a:xfrm>
            <a:off x="4859280" y="1747800"/>
            <a:ext cx="3326040" cy="4776840"/>
          </a:xfrm>
          <a:prstGeom prst="rect">
            <a:avLst/>
          </a:prstGeom>
          <a:ln w="0">
            <a:noFill/>
          </a:ln>
        </p:spPr>
      </p:pic>
      <p:sp>
        <p:nvSpPr>
          <p:cNvPr id="224" name="矩形标注 5"/>
          <p:cNvSpPr/>
          <p:nvPr/>
        </p:nvSpPr>
        <p:spPr>
          <a:xfrm>
            <a:off x="3132000" y="1776240"/>
            <a:ext cx="1727280" cy="776520"/>
          </a:xfrm>
          <a:prstGeom prst="wedgeRectCallout">
            <a:avLst>
              <a:gd name="adj1" fmla="val -95601"/>
              <a:gd name="adj2" fmla="val 5627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沈阳大学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标注 5"/>
          <p:cNvSpPr/>
          <p:nvPr/>
        </p:nvSpPr>
        <p:spPr>
          <a:xfrm>
            <a:off x="6014880" y="3665520"/>
            <a:ext cx="1941840" cy="555480"/>
          </a:xfrm>
          <a:prstGeom prst="wedgeRectCallout">
            <a:avLst>
              <a:gd name="adj1" fmla="val -39833"/>
              <a:gd name="adj2" fmla="val -14448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设置新密码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验证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标注 5"/>
          <p:cNvSpPr/>
          <p:nvPr/>
        </p:nvSpPr>
        <p:spPr>
          <a:xfrm>
            <a:off x="3219480" y="5126040"/>
            <a:ext cx="1944720" cy="863640"/>
          </a:xfrm>
          <a:prstGeom prst="wedgeRectCallout">
            <a:avLst>
              <a:gd name="adj1" fmla="val -58986"/>
              <a:gd name="adj2" fmla="val -17578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初始密码</a:t>
            </a: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684360" y="2997360"/>
            <a:ext cx="2592360" cy="86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" descr=""/>
          <p:cNvPicPr/>
          <p:nvPr/>
        </p:nvPicPr>
        <p:blipFill>
          <a:blip r:embed="rId1"/>
          <a:stretch/>
        </p:blipFill>
        <p:spPr>
          <a:xfrm>
            <a:off x="1763640" y="1747800"/>
            <a:ext cx="2232000" cy="4560840"/>
          </a:xfrm>
          <a:prstGeom prst="rect">
            <a:avLst/>
          </a:prstGeom>
          <a:ln w="0">
            <a:noFill/>
          </a:ln>
        </p:spPr>
      </p:pic>
      <p:sp>
        <p:nvSpPr>
          <p:cNvPr id="231" name="矩形标注 3"/>
          <p:cNvSpPr/>
          <p:nvPr/>
        </p:nvSpPr>
        <p:spPr>
          <a:xfrm>
            <a:off x="2576520" y="4149720"/>
            <a:ext cx="2011320" cy="860400"/>
          </a:xfrm>
          <a:prstGeom prst="wedgeRectCallout">
            <a:avLst>
              <a:gd name="adj1" fmla="val -52097"/>
              <a:gd name="adj2" fmla="val -12267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所有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835280" y="3141720"/>
            <a:ext cx="865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5018040" y="1563840"/>
            <a:ext cx="2232000" cy="4830480"/>
            <a:chOff x="5018040" y="1563840"/>
            <a:chExt cx="2232000" cy="48304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tretch/>
          </p:blipFill>
          <p:spPr>
            <a:xfrm>
              <a:off x="5018040" y="1563840"/>
              <a:ext cx="2232000" cy="48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3301" t="17450" r="3301" b="65753"/>
            <a:stretch/>
          </p:blipFill>
          <p:spPr>
            <a:xfrm>
              <a:off x="5075640" y="2349360"/>
              <a:ext cx="20880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标注 3"/>
          <p:cNvSpPr/>
          <p:nvPr/>
        </p:nvSpPr>
        <p:spPr>
          <a:xfrm>
            <a:off x="5940360" y="3719520"/>
            <a:ext cx="2011320" cy="860400"/>
          </a:xfrm>
          <a:prstGeom prst="wedgeRectCallout">
            <a:avLst>
              <a:gd name="adj1" fmla="val -46708"/>
              <a:gd name="adj2" fmla="val -12031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进课程进行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rcRect l="0" t="0" r="0" b="35478"/>
          <a:stretch/>
        </p:blipFill>
        <p:spPr>
          <a:xfrm>
            <a:off x="-11160" y="2027160"/>
            <a:ext cx="9144000" cy="397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7400" y="16092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"/>
          <p:cNvSpPr/>
          <p:nvPr/>
        </p:nvSpPr>
        <p:spPr>
          <a:xfrm>
            <a:off x="1165320" y="314172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浏览器，输入网址：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ujxjy.fanya.chaox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63640" y="1441440"/>
            <a:ext cx="7380360" cy="538812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4"/>
          <p:cNvSpPr/>
          <p:nvPr/>
        </p:nvSpPr>
        <p:spPr>
          <a:xfrm>
            <a:off x="4427640" y="4581360"/>
            <a:ext cx="2468520" cy="584280"/>
          </a:xfrm>
          <a:prstGeom prst="wedgeRectCallout">
            <a:avLst>
              <a:gd name="adj1" fmla="val 56564"/>
              <a:gd name="adj2" fmla="val -333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登录按钮，进入登录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4" descr=""/>
          <p:cNvPicPr/>
          <p:nvPr/>
        </p:nvPicPr>
        <p:blipFill>
          <a:blip r:embed="rId1"/>
          <a:stretch/>
        </p:blipFill>
        <p:spPr>
          <a:xfrm>
            <a:off x="179280" y="1495440"/>
            <a:ext cx="8202600" cy="5302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标注 9"/>
          <p:cNvSpPr/>
          <p:nvPr/>
        </p:nvSpPr>
        <p:spPr>
          <a:xfrm>
            <a:off x="4560840" y="2316240"/>
            <a:ext cx="3218040" cy="931680"/>
          </a:xfrm>
          <a:prstGeom prst="wedgeRectCallout">
            <a:avLst>
              <a:gd name="adj1" fmla="val -67898"/>
              <a:gd name="adj2" fmla="val 131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选择“机构账号登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输入账号密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登录账号：身份证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首次登录密码：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4" descr=""/>
          <p:cNvPicPr/>
          <p:nvPr/>
        </p:nvPicPr>
        <p:blipFill>
          <a:blip r:embed="rId1"/>
          <a:srcRect l="0" t="0" r="0" b="14533"/>
          <a:stretch/>
        </p:blipFill>
        <p:spPr>
          <a:xfrm>
            <a:off x="0" y="1440000"/>
            <a:ext cx="9132840" cy="4560840"/>
          </a:xfrm>
          <a:prstGeom prst="rect">
            <a:avLst/>
          </a:prstGeom>
          <a:ln w="0">
            <a:noFill/>
          </a:ln>
        </p:spPr>
      </p:pic>
      <p:sp>
        <p:nvSpPr>
          <p:cNvPr id="252" name="矩形 6"/>
          <p:cNvSpPr/>
          <p:nvPr/>
        </p:nvSpPr>
        <p:spPr>
          <a:xfrm>
            <a:off x="417600" y="2631960"/>
            <a:ext cx="1087200" cy="33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成功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绑定手机号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417760" y="3029040"/>
            <a:ext cx="2025720" cy="44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标注 7"/>
          <p:cNvSpPr/>
          <p:nvPr/>
        </p:nvSpPr>
        <p:spPr>
          <a:xfrm>
            <a:off x="5284800" y="3011400"/>
            <a:ext cx="2224080" cy="642960"/>
          </a:xfrm>
          <a:prstGeom prst="wedgeRectCallout">
            <a:avLst>
              <a:gd name="adj1" fmla="val -89986"/>
              <a:gd name="adj2" fmla="val -1361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绑定手机号，绑定成功可以通过手机号登录（包括移动端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标注 14"/>
          <p:cNvSpPr/>
          <p:nvPr/>
        </p:nvSpPr>
        <p:spPr>
          <a:xfrm>
            <a:off x="542880" y="3654360"/>
            <a:ext cx="1528920" cy="584280"/>
          </a:xfrm>
          <a:prstGeom prst="wedgeRectCallout">
            <a:avLst>
              <a:gd name="adj1" fmla="val -19689"/>
              <a:gd name="adj2" fmla="val -17686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进入“账号管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rcRect l="0" t="0" r="0" b="7671"/>
          <a:stretch/>
        </p:blipFill>
        <p:spPr>
          <a:xfrm>
            <a:off x="0" y="1263600"/>
            <a:ext cx="9132840" cy="4749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66470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0" y="-324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"/>
          <p:cNvSpPr/>
          <p:nvPr/>
        </p:nvSpPr>
        <p:spPr>
          <a:xfrm>
            <a:off x="428760" y="1144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tretch/>
        </p:blipFill>
        <p:spPr>
          <a:xfrm>
            <a:off x="108000" y="581040"/>
            <a:ext cx="8223120" cy="5695920"/>
          </a:xfrm>
          <a:prstGeom prst="rect">
            <a:avLst/>
          </a:prstGeom>
          <a:ln w="0">
            <a:noFill/>
          </a:ln>
        </p:spPr>
      </p:pic>
      <p:sp>
        <p:nvSpPr>
          <p:cNvPr id="261" name="矩形标注 4"/>
          <p:cNvSpPr/>
          <p:nvPr/>
        </p:nvSpPr>
        <p:spPr>
          <a:xfrm>
            <a:off x="3492360" y="4292640"/>
            <a:ext cx="1811520" cy="830160"/>
          </a:xfrm>
          <a:prstGeom prst="wedgeRectCallout">
            <a:avLst>
              <a:gd name="adj1" fmla="val -144638"/>
              <a:gd name="adj2" fmla="val -99152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“通用课程”，我学的课，进入到课程学习页面，点击课程任意位置，进入章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-11160" y="-20520"/>
            <a:ext cx="9144000" cy="5839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417600" y="9684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150840" y="1095480"/>
            <a:ext cx="8842320" cy="5216400"/>
          </a:xfrm>
          <a:prstGeom prst="rect">
            <a:avLst/>
          </a:prstGeom>
          <a:ln w="0">
            <a:noFill/>
          </a:ln>
        </p:spPr>
      </p:pic>
      <p:sp>
        <p:nvSpPr>
          <p:cNvPr id="265" name="矩形标注 4"/>
          <p:cNvSpPr/>
          <p:nvPr/>
        </p:nvSpPr>
        <p:spPr>
          <a:xfrm>
            <a:off x="5202360" y="2682720"/>
            <a:ext cx="1266840" cy="255600"/>
          </a:xfrm>
          <a:prstGeom prst="wedgeRectCallout">
            <a:avLst>
              <a:gd name="adj1" fmla="val -43518"/>
              <a:gd name="adj2" fmla="val -5225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“首页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标注 5"/>
          <p:cNvSpPr/>
          <p:nvPr/>
        </p:nvSpPr>
        <p:spPr>
          <a:xfrm>
            <a:off x="2651040" y="3584520"/>
            <a:ext cx="2206800" cy="238320"/>
          </a:xfrm>
          <a:prstGeom prst="wedgeRectCallout">
            <a:avLst>
              <a:gd name="adj1" fmla="val -92731"/>
              <a:gd name="adj2" fmla="val -52370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进入相应章节学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79" name="内容占位符 4" descr=""/>
          <p:cNvPicPr/>
          <p:nvPr/>
        </p:nvPicPr>
        <p:blipFill>
          <a:blip r:embed="rId2"/>
          <a:stretch/>
        </p:blipFill>
        <p:spPr>
          <a:xfrm>
            <a:off x="1332000" y="2778120"/>
            <a:ext cx="2782800" cy="275760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0" name="矩形标注 5"/>
          <p:cNvSpPr/>
          <p:nvPr/>
        </p:nvSpPr>
        <p:spPr>
          <a:xfrm>
            <a:off x="5402160" y="2589120"/>
            <a:ext cx="3137040" cy="1092240"/>
          </a:xfrm>
          <a:prstGeom prst="wedgeRectCallout">
            <a:avLst>
              <a:gd name="adj1" fmla="val -84578"/>
              <a:gd name="adj2" fmla="val 4081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扫描二维码，进入应用商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黑体"/>
                <a:ea typeface="黑体"/>
              </a:rPr>
              <a:t>下载“学习通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84" name="内容占位符 4" descr=""/>
          <p:cNvPicPr/>
          <p:nvPr/>
        </p:nvPicPr>
        <p:blipFill>
          <a:blip r:embed="rId2"/>
          <a:srcRect l="0" t="2563" r="35738" b="61508"/>
          <a:stretch/>
        </p:blipFill>
        <p:spPr>
          <a:xfrm>
            <a:off x="1262160" y="2712960"/>
            <a:ext cx="2906640" cy="288936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5" name="矩形标注 5"/>
          <p:cNvSpPr/>
          <p:nvPr/>
        </p:nvSpPr>
        <p:spPr>
          <a:xfrm>
            <a:off x="4902120" y="2712960"/>
            <a:ext cx="3137040" cy="1092240"/>
          </a:xfrm>
          <a:prstGeom prst="wedgeRectCallout">
            <a:avLst>
              <a:gd name="adj1" fmla="val -94601"/>
              <a:gd name="adj2" fmla="val 1594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下载完成，点击“学习通”，进入移动学习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1494000" y="2820960"/>
            <a:ext cx="992160" cy="98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2894040" y="1441440"/>
            <a:ext cx="2517840" cy="4476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"/>
          <p:cNvSpPr/>
          <p:nvPr/>
        </p:nvSpPr>
        <p:spPr>
          <a:xfrm>
            <a:off x="-11160" y="500040"/>
            <a:ext cx="9144000" cy="9414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995560" y="4000680"/>
            <a:ext cx="650880" cy="261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标注 5"/>
          <p:cNvSpPr/>
          <p:nvPr/>
        </p:nvSpPr>
        <p:spPr>
          <a:xfrm>
            <a:off x="325440" y="4427640"/>
            <a:ext cx="2346480" cy="461880"/>
          </a:xfrm>
          <a:prstGeom prst="wedgeRectCallout">
            <a:avLst>
              <a:gd name="adj1" fmla="val 70231"/>
              <a:gd name="adj2" fmla="val -8979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新用户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357120" y="78588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一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195120" y="1508040"/>
            <a:ext cx="2440080" cy="528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标注 2"/>
          <p:cNvSpPr/>
          <p:nvPr/>
        </p:nvSpPr>
        <p:spPr>
          <a:xfrm>
            <a:off x="1062000" y="4795920"/>
            <a:ext cx="2602080" cy="869760"/>
          </a:xfrm>
          <a:prstGeom prst="wedgeRectCallout">
            <a:avLst>
              <a:gd name="adj1" fmla="val -33648"/>
              <a:gd name="adj2" fmla="val -16825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手机号及密码，然后进行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8)80AN6N)X`B}0~QQ_4ZY74"/>
          <p:cNvPicPr/>
          <p:nvPr/>
        </p:nvPicPr>
        <p:blipFill>
          <a:blip r:embed="rId2"/>
          <a:stretch/>
        </p:blipFill>
        <p:spPr>
          <a:xfrm>
            <a:off x="6416640" y="1573200"/>
            <a:ext cx="2344680" cy="5216400"/>
          </a:xfrm>
          <a:prstGeom prst="rect">
            <a:avLst/>
          </a:prstGeom>
          <a:ln w="0">
            <a:noFill/>
          </a:ln>
        </p:spPr>
      </p:pic>
      <p:sp>
        <p:nvSpPr>
          <p:cNvPr id="199" name="矩形标注 5"/>
          <p:cNvSpPr/>
          <p:nvPr/>
        </p:nvSpPr>
        <p:spPr>
          <a:xfrm>
            <a:off x="4645080" y="4896000"/>
            <a:ext cx="2601720" cy="869760"/>
          </a:xfrm>
          <a:prstGeom prst="wedgeRectCallout">
            <a:avLst>
              <a:gd name="adj1" fmla="val 34171"/>
              <a:gd name="adj2" fmla="val -166129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“沈阳大学继续教育学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22"/>
          <p:cNvSpPr/>
          <p:nvPr/>
        </p:nvSpPr>
        <p:spPr>
          <a:xfrm>
            <a:off x="5149800" y="2871720"/>
            <a:ext cx="3005280" cy="685800"/>
          </a:xfrm>
          <a:prstGeom prst="wedgeRectCallout">
            <a:avLst>
              <a:gd name="adj1" fmla="val -77555"/>
              <a:gd name="adj2" fmla="val 1560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及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$W3([$L0%X938Z)291_TA4U"/>
          <p:cNvPicPr/>
          <p:nvPr/>
        </p:nvPicPr>
        <p:blipFill>
          <a:blip r:embed="rId1"/>
          <a:stretch/>
        </p:blipFill>
        <p:spPr>
          <a:xfrm>
            <a:off x="960480" y="1579680"/>
            <a:ext cx="2390760" cy="5362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593640" y="2476440"/>
            <a:ext cx="3005280" cy="22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：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741240" y="1523880"/>
            <a:ext cx="2497320" cy="5403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6226200" y="1501920"/>
            <a:ext cx="237168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3"/>
          <p:cNvSpPr/>
          <p:nvPr/>
        </p:nvSpPr>
        <p:spPr>
          <a:xfrm>
            <a:off x="2487600" y="4016520"/>
            <a:ext cx="2011320" cy="860400"/>
          </a:xfrm>
          <a:prstGeom prst="wedgeRectCallout">
            <a:avLst>
              <a:gd name="adj1" fmla="val -111703"/>
              <a:gd name="adj2" fmla="val -18092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自己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4"/>
          <p:cNvSpPr/>
          <p:nvPr/>
        </p:nvSpPr>
        <p:spPr>
          <a:xfrm>
            <a:off x="4626000" y="4016520"/>
            <a:ext cx="2011320" cy="860400"/>
          </a:xfrm>
          <a:prstGeom prst="wedgeRectCallout">
            <a:avLst>
              <a:gd name="adj1" fmla="val 44726"/>
              <a:gd name="adj2" fmla="val -8424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课程章节页面，点击章节即可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6T02:12:06Z</dcterms:created>
  <dc:creator>1111</dc:creator>
  <dc:description/>
  <dc:language>en-US</dc:language>
  <cp:lastModifiedBy>user</cp:lastModifiedBy>
  <dcterms:modified xsi:type="dcterms:W3CDTF">2022-05-20T11:15:5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